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1F3C-7A83-49E6-87D8-CD26CAF4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D426-C297-4B6D-B725-54BF0672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2396-05D9-48C1-87B3-F5F83F21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5566-AFD1-45A6-853C-70CAE060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4C4B-05C6-4BCE-9C27-D3E22E99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4C05-17F9-41D9-9E13-3C2CBD51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725E-4941-4F95-919F-68C0C302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329-20A9-462A-A27E-7357FD52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8475-8ADD-4070-9F83-99131FCE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39A3-1390-407D-8BB2-250B7090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9DD0-8751-4533-83F4-578F7F25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4AF1-D700-41CF-AC8E-A6435B5B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7FBF-EE04-48F7-8FE7-CB2993C5B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72200" y="4343400"/>
            <a:ext cx="3276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urlz MT"/>
              </a:rPr>
              <a:t>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urlz MT"/>
              </a:rPr>
              <a:t>4-2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urlz MT"/>
              </a:rPr>
              <a:t>Perio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447920"/>
            <a:ext cx="6629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Apple Computer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191120"/>
            <a:ext cx="5638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ishing You Farewell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7, 2010,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00cc00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Jobs and Wozniak"/>
          <p:cNvPicPr/>
          <p:nvPr/>
        </p:nvPicPr>
        <p:blipFill>
          <a:blip r:embed="rId1"/>
          <a:stretch/>
        </p:blipFill>
        <p:spPr>
          <a:xfrm>
            <a:off x="1828800" y="609480"/>
            <a:ext cx="4800600" cy="1479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52480" y="2743200"/>
            <a:ext cx="5867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ve Lobs and Steve Wozniak invented Apple Compute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26708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.c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eve Jobs and Steve Woznia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 10, 2010, http://inventors.about.com/gi/o.htm?zi=1/XJ&amp;zTi=1&amp;sdn=inventors&amp;cdn=money&amp;tm=6&amp;gps=467_245_1131_688&amp;f=00&amp;tt=2&amp;bt=1&amp;bts=1&amp;zu=http%3A//web.mit.edu/invent/iow/app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Broadway"/>
              </a:rPr>
              <a:t>Invention: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Apple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ff6699"/>
                </a:solidFill>
                <a:latin typeface="Broadway"/>
              </a:rPr>
              <a:t>Compu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99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Broadway"/>
              </a:rPr>
              <a:t>First 50 machines sold to a dealer called the Byte Shop in Mountain View Califor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Dubbed “Apple Is”, the computer sold for $666 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99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Broadway"/>
              </a:rPr>
              <a:t>First single-board computers with onboard Read Only Memory or 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In 1977, Apple II was introduced which included color graphics and which housed its electronics inside a plastic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99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Broadway"/>
              </a:rPr>
              <a:t>Apple Computer went public in 1980, making its founders multi-millionai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ccff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Broadway"/>
              </a:rPr>
              <a:t>Inventor: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663300"/>
                </a:solidFill>
                <a:latin typeface="Broadway"/>
              </a:rPr>
              <a:t>Steve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00ffff"/>
                </a:solidFill>
                <a:latin typeface="Broadway"/>
              </a:rPr>
              <a:t>Jobs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663300"/>
                </a:solidFill>
                <a:latin typeface="Broadway"/>
              </a:rPr>
              <a:t>&amp;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00ffff"/>
                </a:solidFill>
                <a:latin typeface="Broadway"/>
              </a:rPr>
              <a:t>Steve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663300"/>
                </a:solidFill>
                <a:latin typeface="Broadway"/>
              </a:rPr>
              <a:t>Wozni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Broadway"/>
              </a:rPr>
              <a:t>Steve Jobs was born on Feb.24,1955 In San Francis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Broadway"/>
              </a:rPr>
              <a:t>He was adopted by a couple and was raised in Los Altos, Califor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Broadway"/>
              </a:rPr>
              <a:t>Went to Reed College in Portland, Oreg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Broadway"/>
              </a:rPr>
              <a:t>Steve Wozniak was born on Aug.11,1959 in San Jose, Califor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Broadway"/>
              </a:rPr>
              <a:t>He left the University of California at Berkley before he finished his degree, to go to work for Hewlett-Pack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3:10:12Z</dcterms:created>
  <dc:creator>install</dc:creator>
  <dc:description/>
  <dc:language>en-US</dc:language>
  <cp:lastModifiedBy>install</cp:lastModifiedBy>
  <dcterms:modified xsi:type="dcterms:W3CDTF">2010-05-12T13:12:45Z</dcterms:modified>
  <cp:revision>6</cp:revision>
  <dc:subject/>
  <dc:title>Slide 1</dc:title>
</cp:coreProperties>
</file>